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4B9E-0A38-424B-9FC9-45A13E8D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F9A1-02CD-4E61-B1FF-8022DDC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7C05-4AA7-48C1-A982-CADCA224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C41C-FA8F-4EAF-A67C-8423E70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27D-4906-4A78-8BB7-16F079A5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BBA-66E3-4DD1-8EC5-76E5B1F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909-9590-4615-ADFC-41214A0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3125-7849-4F89-B88A-9FB5944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9CD0-3224-4649-BBD2-A9CB931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2967-7FE3-4FDA-85BD-8E16B28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7FD-F403-485B-AAB6-8DABB4A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51C9-0EA4-4EA4-BA88-6B671D2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4E5-314E-465B-910C-36D5509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730D-3BB5-400A-B01C-6CA1715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B52B-80DB-49A8-B0D3-5C6A02C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46C-DA87-440C-8123-FB35B62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D59E-CA06-4432-83A9-5E7C722F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4182-B51F-4CF2-8250-627E65FB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F3C2-3E2D-48A6-860B-7DD3A47C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8E1A-60F1-496D-BA32-1F9B51A7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C991-D9BE-44C9-959F-36ADC2D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7002-B98A-4C36-A9F3-0A359B7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A83F-6703-459B-9869-65261599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FBC2-BD8A-4977-AF35-CFB459E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C36-ED73-4762-B1E9-DDF613C9D7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784-B747-4ECE-BB5A-ABDC018A24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l cine de bourque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justin bour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Grand apertura!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La pelicul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se llama la Green Zone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La ses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es a las 1:30 - 3:00. el principal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cto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el film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es matt damon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Las entrada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son 5 dolares.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Una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versión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en español de 03:00-04:30. Se habla espanol aqui.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Las butaca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son buenas aqui. La comida es muy buena. Tenemos alimentos y bebemos.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nemos un McDonalds en el vestíbulo.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La pantalla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es muy grand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arjetas de regalo están disponibles en el vestíbu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n contacto con nosotros 1-555-436-889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nemos una estacion de autob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no se olvide de salir a coger el autobús a las 3: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3848040" cy="205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3520" y="533520"/>
            <a:ext cx="16570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el cine de bourque!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43600" y="762120"/>
            <a:ext cx="19051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 cine de bourque!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72240" y="2027160"/>
            <a:ext cx="17892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6:32:39Z</dcterms:created>
  <dc:creator>bourquejus</dc:creator>
  <dc:description/>
  <dc:language>en-US</dc:language>
  <cp:lastModifiedBy>bourquejus</cp:lastModifiedBy>
  <dcterms:modified xsi:type="dcterms:W3CDTF">2011-12-22T15:51:11Z</dcterms:modified>
  <cp:revision>8</cp:revision>
  <dc:subject/>
  <dc:title>Slide 1</dc:title>
</cp:coreProperties>
</file>